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5CAB-3638-48F8-AD98-8CE7A1E8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F5C7-2AB5-42A5-80A2-193F9DB8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40B-ADEB-47BF-B872-7F1F4E9A5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D7B-6921-4FC6-9A7A-2B162503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EBC-2302-4836-B476-02F8A8E4E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16F5-482C-4AE0-AA21-1BD69569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7E7-9C84-4F58-BD20-4B1C160D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037-5820-4A22-B314-6C8A675D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A29F-8E47-4826-9F7F-D925BD8E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22CF-6CF2-4847-A861-9205262A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C8CE-F9F0-44C8-86E2-523DAE2C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50F-AED7-4C64-90C9-AE823772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BC78-69C2-4ECB-9312-8374407FF3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2.xml"/><Relationship Id="rId4" Type="http://schemas.openxmlformats.org/officeDocument/2006/relationships/slide" Target="slide12.xml"/><Relationship Id="rId5" Type="http://schemas.openxmlformats.org/officeDocument/2006/relationships/slide" Target="slide12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2.xml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ch a short  film and think of the questions follow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276720" cy="2506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3095640" cy="252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08720" y="1557360"/>
            <a:ext cx="2735280" cy="252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95640" y="4797360"/>
            <a:ext cx="1513080" cy="935280"/>
          </a:xfrm>
          <a:prstGeom prst="rightArrow">
            <a:avLst>
              <a:gd name="adj1" fmla="val 50000"/>
              <a:gd name="adj2" fmla="val 404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9467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the short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 to the tape again, answer th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in page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ly come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teacher’s instru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les may contain dangerous g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ly wash your eyes with a lot a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everything away and leave the classroom neat and clean. Wash your hands with water and soap. Turn off the lights and shut the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9120" y="113040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The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227640" y="620640"/>
            <a:ext cx="266400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220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57200" y="3886200"/>
          <a:ext cx="7924320" cy="2641320"/>
        </p:xfrm>
        <a:graphic>
          <a:graphicData uri="http://schemas.openxmlformats.org/drawingml/2006/table">
            <a:tbl>
              <a:tblPr/>
              <a:tblGrid>
                <a:gridCol w="2641680"/>
                <a:gridCol w="2640960"/>
                <a:gridCol w="264168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20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lev tr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 txBox="1"/>
          <p:nvPr/>
        </p:nvSpPr>
        <p:spPr>
          <a:xfrm>
            <a:off x="2057400" y="2362320"/>
            <a:ext cx="419112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peaking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457200" y="762120"/>
          <a:ext cx="8153280" cy="4064040"/>
        </p:xfrm>
        <a:graphic>
          <a:graphicData uri="http://schemas.openxmlformats.org/drawingml/2006/table">
            <a:tbl>
              <a:tblPr/>
              <a:tblGrid>
                <a:gridCol w="2717640"/>
                <a:gridCol w="2718000"/>
                <a:gridCol w="271764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clear ener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u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ce fligh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06" name=""/>
          <p:cNvSpPr/>
          <p:nvPr/>
        </p:nvSpPr>
        <p:spPr>
          <a:xfrm>
            <a:off x="3708360" y="177336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3640" y="177336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24360" y="263700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328464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0000" y="335772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43640" y="256536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80000" y="414972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4221000"/>
            <a:ext cx="1244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提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e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useful expressions  may help you to discuss the ques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ells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细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,biology, people that look the same, making people, copying animals and people, organs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器官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ollute environmen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angerous; waste; expensive to build; electricity; lack of source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源不足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o things faster than people; make work safer; information; difficult to control when something goes wrong; viruses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uter space; satellites in space; rescue; shows how far a country has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6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review the text of this unit and try to get the main idea of each paragrap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find some information about </a:t>
            </a:r>
            <a:r>
              <a:rPr b="0" i="1" lang="en-US" sz="3200" spc="-1" strike="noStrike">
                <a:solidFill>
                  <a:srgbClr val="ff505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enjamin </a:t>
            </a:r>
            <a:r>
              <a:rPr b="1" i="1" lang="en-US" sz="3200" spc="-1" strike="noStrike">
                <a:solidFill>
                  <a:srgbClr val="ff505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rankl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84720" y="1557360"/>
            <a:ext cx="230508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Answer the questions according to the films you have s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11640" y="14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They are on the Mo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They are American astrona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id it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On July 20</a:t>
            </a:r>
            <a:r>
              <a:rPr b="0" lang="en-US" sz="2800" spc="-1" strike="noStrike" baseline="30000">
                <a:solidFill>
                  <a:srgbClr val="ff505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, 19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140360" y="4952880"/>
            <a:ext cx="500364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2097000"/>
            <a:ext cx="363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July 20th, 1969,two American astronau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strong and Aldrin landed on the su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the Moon. They become the first man w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ed on the other planet and also bec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heroes of our human beings. But in fa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epare this plan, more than 400 thous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ers have worked for it, including thous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cientists from 80 Scientific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981000"/>
            <a:ext cx="1295280" cy="720720"/>
          </a:xfrm>
          <a:prstGeom prst="wedgeRectCallout">
            <a:avLst>
              <a:gd name="adj1" fmla="val -46935"/>
              <a:gd name="adj2" fmla="val 1279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the short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84360" y="0"/>
            <a:ext cx="3886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6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Who are they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91320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2828880" cy="3961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76200" y="5738760"/>
            <a:ext cx="31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on  (1642-172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tain 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6237360"/>
            <a:ext cx="32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instein(1879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95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 rot="372600">
            <a:off x="2700360" y="4952880"/>
            <a:ext cx="60958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Who is she/h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048120" cy="4724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266364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288200" y="482760"/>
            <a:ext cx="160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ble (1833--1896)  Sweden chem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5057640"/>
            <a:ext cx="239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rs. Curie (1867 --1934) Poland chemi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50000">
              <a:srgbClr val="ffffff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What are the names of the school subjects in which you study Sci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68360" y="1989000"/>
            <a:ext cx="8352720" cy="3094560"/>
            <a:chOff x="468360" y="1989000"/>
            <a:chExt cx="8352720" cy="3094560"/>
          </a:xfrm>
        </p:grpSpPr>
        <p:cxnSp>
          <p:nvCxnSpPr>
            <p:cNvPr id="64" name="_s12302"/>
            <p:cNvCxnSpPr>
              <a:stCxn id="65" idx="0"/>
              <a:endCxn id="66" idx="2"/>
            </p:cNvCxnSpPr>
            <p:nvPr/>
          </p:nvCxnSpPr>
          <p:spPr>
            <a:xfrm flipV="1" rot="16200000">
              <a:off x="5796360" y="2073600"/>
              <a:ext cx="619560" cy="292428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12301"/>
            <p:cNvCxnSpPr>
              <a:stCxn id="68" idx="0"/>
              <a:endCxn id="66" idx="2"/>
            </p:cNvCxnSpPr>
            <p:nvPr/>
          </p:nvCxnSpPr>
          <p:spPr>
            <a:xfrm flipV="1">
              <a:off x="4644360" y="3225960"/>
              <a:ext cx="3960" cy="619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2300"/>
            <p:cNvCxnSpPr>
              <a:stCxn id="70" idx="0"/>
              <a:endCxn id="66" idx="2"/>
            </p:cNvCxnSpPr>
            <p:nvPr/>
          </p:nvCxnSpPr>
          <p:spPr>
            <a:xfrm flipH="1" flipV="1" rot="5400000">
              <a:off x="2873160" y="2073600"/>
              <a:ext cx="619560" cy="2924280"/>
            </a:xfrm>
            <a:prstGeom prst="bentConnector3">
              <a:avLst>
                <a:gd name="adj1" fmla="val 127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12296"/>
            <p:cNvSpPr/>
            <p:nvPr/>
          </p:nvSpPr>
          <p:spPr>
            <a:xfrm>
              <a:off x="3391920" y="198900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cienc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2297"/>
            <p:cNvSpPr/>
            <p:nvPr/>
          </p:nvSpPr>
          <p:spPr>
            <a:xfrm>
              <a:off x="468360" y="384588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Physics</a:t>
              </a: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2298"/>
            <p:cNvSpPr/>
            <p:nvPr/>
          </p:nvSpPr>
          <p:spPr>
            <a:xfrm>
              <a:off x="3391920" y="384588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Chemistr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2299"/>
            <p:cNvSpPr/>
            <p:nvPr/>
          </p:nvSpPr>
          <p:spPr>
            <a:xfrm>
              <a:off x="6315480" y="3845880"/>
              <a:ext cx="2505600" cy="1237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Biology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116000" y="5229360"/>
            <a:ext cx="686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If you want to learn to the science subjects well, what should you 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at scho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 rot="20941200">
            <a:off x="826560" y="620640"/>
            <a:ext cx="720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?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228600"/>
            <a:ext cx="84438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1.If you want to learn to the science subjects well, what should you also do except the class learn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Arial"/>
              </a:rPr>
              <a:t>2.What can you see in the pictures ? Give us the descrip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 rot="228600">
            <a:off x="1692000" y="476280"/>
            <a:ext cx="5200560" cy="18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>
            <a:off x="457200" y="2514600"/>
            <a:ext cx="82296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If you do the experiments in the lab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What are the do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cc"/>
                </a:solidFill>
                <a:latin typeface="Arial"/>
              </a:rPr>
              <a:t>What are the don’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8600" y="2057400"/>
          <a:ext cx="8610480" cy="4076640"/>
        </p:xfrm>
        <a:graphic>
          <a:graphicData uri="http://schemas.openxmlformats.org/drawingml/2006/table">
            <a:tbl>
              <a:tblPr/>
              <a:tblGrid>
                <a:gridCol w="4267080"/>
                <a:gridCol w="4343400"/>
              </a:tblGrid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’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99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914400" y="9144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Bookman Old Style"/>
              </a:rPr>
              <a:t>What should we do in the la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3049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Impact"/>
              </a:rPr>
              <a:t>Spoken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924280"/>
            <a:ext cx="36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isten/your tea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67120" y="3218040"/>
            <a:ext cx="383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3141720"/>
            <a:ext cx="345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e in/with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378936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Follow/teacher’s/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3860640"/>
            <a:ext cx="36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uch/unless/teac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4653000"/>
            <a:ext cx="340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idy/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465300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get/turn off/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5516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t/everything/cup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40200" y="55227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get/w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e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24591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Listen to the tape. Tick the things that Mrs. Zhu talks ab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95640" y="1268280"/>
            <a:ext cx="46864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safety in the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glo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 g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exper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long h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liqui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car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sho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)fl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265640"/>
            <a:ext cx="363528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427640" y="134136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22766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70828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321300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5084640"/>
            <a:ext cx="3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5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06:12:47Z</dcterms:created>
  <dc:creator>肖清海</dc:creator>
  <dc:description/>
  <dc:language>en-US</dc:language>
  <cp:lastModifiedBy>肖清海</cp:lastModifiedBy>
  <dcterms:modified xsi:type="dcterms:W3CDTF">2004-03-22T06:29:38Z</dcterms:modified>
  <cp:revision>14</cp:revision>
  <dc:subject/>
  <dc:title>Answer the questions according to the film you have seen</dc:title>
</cp:coreProperties>
</file>